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C25-4819-48FD-A0BF-CBD3C37C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7A59-7847-48C9-97B2-819368B2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5AE-AEBC-4891-82D6-A9BBA595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733-BD74-4375-8AFB-9DD16111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7C47-DA12-43EC-8C00-604C6058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32A4-DE77-4246-88D6-6CD30A52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AD17-7333-453A-BC78-713AC485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070D-32DC-420B-8E05-6B805DBA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0C67-B878-418D-8484-6125E0A9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7284-00F2-4642-820E-12B42F74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7085-D7BC-4F14-B414-E6B7A99B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440-173D-42D0-B3F5-03B1F204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E424-78D7-4494-9D3B-05413C19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1B5A-29D7-458E-8E34-CEC61EE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1A75-4556-442F-A942-4B95F8DA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72FE-37C1-4F62-91BC-34B816B4E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261F-4B05-47C9-B3F7-4FD86A0D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6ED-BAB6-41B1-87A6-0320584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83A-7041-47EC-AC47-1805A574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9CD-157A-4ED3-91D5-5520FCC3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537-65AE-4F3A-BB82-E4DDA39F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9CC-D9A0-4D7D-9156-5512701C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508-AC8A-43E3-A54B-52905759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20F-4696-4DC8-96A4-C090996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ADB0-14DD-4102-A785-3FCD7C5EC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1379-4257-4658-8E41-279662EC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 Read You Write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 vocabulary game from Mentoring Minds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Grades 3 and 4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ntainers to hold definitions your students need to practice. One container for each small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 Read You Write</a:t>
            </a:r>
            <a:br>
              <a:rPr sz="4400"/>
            </a:b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e Skinny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class into small groups and give each group a container with vocabular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udent needs pencil and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ake turns reading the definitions to thei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rite the word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get points for writing the correct wo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ar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teams definitions to read.  They should answer with the correct word for a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13:44:52Z</dcterms:created>
  <dc:creator>Ann Weeks</dc:creator>
  <dc:description/>
  <dc:language>en-US</dc:language>
  <cp:lastModifiedBy>Ann Weeks</cp:lastModifiedBy>
  <dcterms:modified xsi:type="dcterms:W3CDTF">2008-06-29T14:14:25Z</dcterms:modified>
  <cp:revision>5</cp:revision>
  <dc:subject/>
  <dc:title>Phone A Friend A vocabulary game from Mentoring Minds</dc:title>
</cp:coreProperties>
</file>